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058-2289-417B-86E5-8DC7EDC7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F1F-C053-46CC-BD7E-6276D7F4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E56-AFCE-4387-BD70-3C25179B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7A0-CDB7-4508-90CB-843D7FA9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474-0689-48F9-9A32-BF8BA0B6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D41-5AE4-4E5A-9182-80DCC9AE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6D9-0900-4CB7-A430-D00E025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B2B-D284-4EAD-AA83-341A3BE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38D-FB39-459C-B57D-81479AC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21B-E0C9-43D2-B438-B0FC04FF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214-26D3-45B6-BF7C-D15A6309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D44-6C0A-4284-A740-14D9665C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D05-8A67-4903-A6A8-49C588DD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The Adams Family</cp:lastModifiedBy>
  <cp:lastPrinted>2001-08-14T21:30:16Z</cp:lastPrinted>
  <dcterms:modified xsi:type="dcterms:W3CDTF">2012-08-29T13:04:58Z</dcterms:modified>
  <cp:revision>145</cp:revision>
  <dc:subject/>
  <dc:title>PowerPoint Presentation</dc:title>
</cp:coreProperties>
</file>